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wmf" ContentType="image/x-wmf"/>
  <Override PartName="/ppt/media/image16.png" ContentType="image/png"/>
  <Override PartName="/ppt/media/image21.jpeg" ContentType="image/jpeg"/>
  <Override PartName="/ppt/media/image22.png" ContentType="image/png"/>
  <Override PartName="/ppt/media/image18.png" ContentType="image/png"/>
  <Override PartName="/ppt/media/image17.png" ContentType="image/png"/>
  <Override PartName="/ppt/media/image15.jpeg" ContentType="image/jpeg"/>
  <Override PartName="/ppt/media/image26.wmf" ContentType="image/x-wmf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BC5-B286-41DA-8D28-A07AEAD0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E3E3-69C5-4405-B7E6-ADDAC47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54C0-FFBC-467B-8FBE-E6FEC201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9D265-5120-4638-8545-9E445C4E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8A03A-8651-441C-ACEB-B7FD09EC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B0A2B-DBC7-428D-BC7A-8FFB3383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9E9B3-B062-4FC0-B113-5209E373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B7DC6-8356-46C5-82A8-616DB3A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0F574-DD52-4F0F-8C3B-C8A2F678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B7FAE-9522-4832-825B-7779692E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7EB52-321F-4CE5-9684-2C3FB71F3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08C21-7951-4B31-B7B7-2A1DEB38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C69-783A-42DE-A6E4-95BA6F37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F22C7-CB21-4B9A-B253-7360ED07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E1C73-6F20-4A77-BCA4-42B263C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2B539-9EB3-4439-A473-63B5D127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38D7B-92CE-4236-8570-3D51362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D15FD-EF60-4CBA-89E8-B8EE6A5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08C85-329F-4AF3-B166-1FBA6637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AE337-DEBC-433A-88AB-EBCFEDF3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7B90B0-A360-4187-8B99-77D23566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0DA78-D9A9-4E25-9F77-46A47090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2FE283-9E45-46D3-A622-48CDF76C1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F30-920D-46B5-8F91-B0E6A83C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890E1-59DA-4F84-A459-4C5359F0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FFF09-F98A-4938-9C14-1781829E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B7360-5354-43FD-9C87-1F93CFD8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BCC82-83BB-47D1-85DF-1031004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210E0-A565-4F71-9107-C3AA2809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031BF-AEED-4A1B-8D63-E5FD64DE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D13EA-8CF9-4E49-8198-9FB9861F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53CF0C-7C5C-4F03-8092-71D56966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BCCF2-592B-4170-A00D-A9760A77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B56E-ED04-4802-A30A-CC2E0E4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00D7-5221-4E4E-83DF-462E6BE7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7274AE-A8BC-4FBC-BA70-1B3E7591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EC0E9-B8AC-47CD-AD15-FCFEED109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7C946-A04E-45CD-A40B-8C995368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2C696-2F87-4A36-9665-07724CD4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DDB6B-79EE-44A6-9D56-1F06C665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208CF-FED4-473C-9FC6-D506CA25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6DAD85-7D09-44A6-994E-BB9106E2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C703D-6EED-4FAA-BFA2-FE56032E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E3643-4BCF-4418-ADBD-740B8A6D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9CADCD-3F13-4FFD-A20C-A892195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CF5C-1E24-4351-9261-A60BD13B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04DC0-9C9B-4F30-9773-96D66D5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B18784-57CD-4EF9-836A-80449A9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4960A-6030-4BE8-A847-A015C521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E3116-1BAA-4BD4-9578-D0F61980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98243-DCBD-4FEB-8583-448BF64E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A9B3A-69C3-474F-99C9-96014E8A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2858F-F14A-4327-873F-40B1C471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99E03-B477-4565-A1E3-6CBD6573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2A112-9237-45DF-964D-D460E227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2F466-327D-46CB-B4FB-3448737A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B06B-682C-4CB7-81DF-109AD55C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C2E85-A027-4C9C-9E01-5663624E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04F70-7210-465B-8CA8-1795563D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D71E2-E63B-4A8E-B7BF-ADC2FB94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E4AC20-DD47-42B6-AF71-F986A0AE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8B394-79C3-4C08-A06E-A1455B52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4007A-E3B7-43F1-AF4B-28E9D7ED4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2234D-A442-4419-9E9C-53D92391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50C9D-C24F-41BB-A8D1-A8476E6B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3D531C-6405-47FA-A561-58391D42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6D454-6764-45C7-BCFB-873E3308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6AEC-90E3-40C9-92A0-4B385066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C9B671-5529-44C8-A104-673C4F7B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6DBC8B-DE21-43A7-BC4D-CE92F7F4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0DB6D6-5436-4894-B28E-0DACEA7D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CCB52-C642-4153-A682-F19F952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03FEB-16BD-4A6E-B962-9EE2E36D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7282B-3E01-48A5-8B11-296BF79D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1344E-1B5D-4962-9888-AF18394D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BE2BA-591F-4636-B816-85DC1777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928E2-E0B1-405E-9C5E-2E5CC147E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DB730-A6AE-4806-8EF9-FB8868A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32E0-53B4-4F2C-98B4-7ED363B0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E42D1F-EC4C-4A8A-BFDF-98B12D97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0929D-7E46-45C5-BDFE-8DD3EEA6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9213B-5B62-4DAC-BAE3-2C4D9C5E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C3BF7-67D7-43B9-A5CB-2C500115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D3A7BC-ED75-4AC5-A413-0EA78BDC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C8CDB-68A3-4DA0-ABB5-3DD9C8DB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1156C-2023-49C5-812C-A5FEEA77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D6810-1F8F-421E-9DFC-CAC2C747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025E6-5AA2-43A0-B3E9-EED1C2A8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3DB676-4840-423E-8ECD-2F7A44FDD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98C3-FAF3-49D2-AED7-6FE2DD3F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730A3C-F29E-4E8C-B9C0-5DC3DE48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1492BD-FCD4-4B43-AD93-FB1A8F38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3EF76A-764A-45F1-AA97-AB6387AC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D0EB45-1DF4-4BF2-A416-DE13DD7D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06224A-8EA2-438B-B764-1F71D581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5EA368-E229-4A2E-B388-D8501F5E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4760E3A-EA76-4187-AECA-5BB053F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77E757A-E85E-4EA3-9E48-09787AAD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6CF062-BF75-4326-94BE-46C062A6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ABAEEA-537C-415A-B43B-7A126BE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88AD-2871-4F53-AD0E-0B2EBC5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893297-24B1-4D80-9C4A-0EF9584C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91988D-09A1-4F07-975E-1E5E7C67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D3FAF2-A627-449B-8739-0F556950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1FAE2E-9F57-4E9A-947E-04CA8A65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E5FFA0-082D-4ED6-904D-FBAE4EF8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01867F-2784-43D0-8AC5-3BB23026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0A3ABC-9184-4D72-90C4-A0842C19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ACD43F-5750-429D-9FF0-4AC4333E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92F5EC9-0073-4670-9FF9-2F64589D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5F36C9-29F8-42CE-95E9-0C356107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491-DF6E-400B-A47F-DFD8315E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801E-F42E-40F2-834B-4DF4DCF0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E9D7D8C-D881-4153-9C31-27FDC8E8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193CE6-CE10-4DBC-8775-2FAE0FF5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EF5C7A-A744-4F58-B426-5F2F705D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E29BEB-0C4B-48CE-AACE-1207A439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7779DE-C42F-4652-9F39-268F1DAF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36E2CD0-B2A6-4672-9869-3829C030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48822EC-6404-4E70-B212-A55EC9EA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D6DF550-6808-4B98-AE00-E13156E1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265A7E5-C4D8-48F0-9E1D-F27630D1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F46223-ACA9-43C7-B121-C4104D05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74AB-AEC2-48AC-92F2-FBF5964B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EAC5E6D-9D78-4A41-89DE-35180E3E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D41243-F1EB-4166-A0D6-9D87BC5D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EB55FD-120B-4740-B7DE-F597A9C7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BAC68BC-269C-4698-9E96-E5B23F04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C938ED-DDE8-4E6F-B5AF-70B8923E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53A4C83-AC38-40E6-84E6-EFD02E64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7BBCFC5-3550-49B2-86C2-399FE17E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A4C0C-412C-41C8-801B-9BEDCF4FD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9E29A2-0B14-47F3-BC68-2DD7AE3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557A1-1EC4-4756-B727-EACCD26D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BBE1-1853-45EB-BC70-A8B8A1E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5AC9A-39F1-48DF-AA3A-63465376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428CF-3760-4482-B986-8CA06637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4A375-9AE5-4154-8FB5-6A205A5B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4769A-96AA-4692-8C47-1DB5A57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98F420-D8B1-448A-B486-653927F5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DE1DA-F130-4C25-BDC7-D3E55D1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C9FF6-9E06-49AF-B716-5B82D58F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9EB66-B552-49D3-8773-14E05552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691A7D-6493-4BE2-AD2C-94CA835D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01C55A-BB8C-4CA3-963E-5E3FFF8A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686A-7F97-47D7-B384-E39EE7F5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7CA2CA6-4EA0-4CB4-B7F7-78921F56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DA26998-A64C-4F1D-8F9E-8E276A60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8AE1209-DD6E-4A3E-8C75-384C7D32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F327661-AE88-4D71-9E5B-A9508580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5B129C8-05DE-47A1-833D-6A79E594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D81646E-303F-44AD-9312-7363B341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8FDB039-D375-4F47-B173-A7DE2613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8225E6-094D-440B-AD5C-A834A909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0CD1F97-8B9A-4ADF-8B22-B6EDEFAB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37AD55C-C84A-4ED8-A4CC-2D0715DA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FA97-DA5C-42F4-A0DE-BD2A839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AC32854-2E5F-46F6-ADAF-3F99945D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37907-12F6-438A-870D-32214D90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758142-A5C7-4F7B-8AF7-440FBF0E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8070B1-1295-4269-8946-6825309C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68ACC6-352D-488D-8BD9-7BDA0B03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8786D-C31E-43EF-8357-6545BAE7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B8FDD9-C04F-455D-8F8F-2D1F264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0411A-4BF6-4B20-A4BB-35A6F190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BE8FC-F64F-41E9-BDD7-25F45634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A9E494-6FE2-4873-B881-26B5568A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0D19-922C-43CB-B3B1-C1DC2703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6350DB-C63C-48F6-8A2E-4B9DEB73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1A32C-72C8-4980-8C1D-09BA8E36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5866B-54B6-417C-8E9D-1C1861FB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075DF0-63B6-4A3F-9017-5016191F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AF740-E8CE-4C52-9397-42FE821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C677E2-58DF-46EA-B127-76BD61B1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67A6F8-1F5F-47C7-9948-38E4E643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F7C821-B5A1-478B-A2CD-6716D009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560A44-6935-4D8F-94B0-D341642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DD2563-8A74-4971-B180-8F1E2C4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7363-BC56-42A3-A2A6-B0D57205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9E2150-661E-4B27-A1F4-CED358BF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E0502B-D5E3-47E0-971A-0F241336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1CBD35-A35D-4149-80E5-371D9B6B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8F04D4-4C03-4B9F-8046-B50927FE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A3C62A-415A-4DA4-87DF-C3091E0B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7E0F79-29BC-485F-B9D4-B141FDF1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299FEB-8425-449C-8E58-5557C6B6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5674D9-1A74-49CB-801E-48971A9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6D9E98-F993-4C90-8054-8DBC2C3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007DC-944C-4278-A69E-FEC57910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0B81-7DA2-4321-B271-B8D02965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DE7C80-8C0A-4E1C-A32D-A9231ADC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C0BA3F-753E-4E3E-9C45-D9A74494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8A4B2B-2E9A-491A-91AB-CD3B4256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A480FA-1BBE-436E-943E-32279870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022505-B89A-4BA8-9757-5DC42889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AC30F3-FAC8-44AC-86B1-5E587E56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616296-41FA-4575-AB8F-D9A47A7E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EF2C47-F533-4E82-8BF7-D12CF2EA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FBC782-CF0E-4682-87D6-4EE155EB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FA176D-9138-4FCB-9AD6-36BDFEE5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CA2A9-DF4B-4D62-9BC9-6B87403F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5C6AD8-41EF-4A0F-96F1-F4A18103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0439DC-31A4-4FA8-8F38-28C780D9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38A58F-2865-47D7-9082-85E0945F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09AD00-FFAC-474A-A9C4-B5558867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BB6E7D-315B-45F4-8368-A3EECE6B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DE76D2-071C-4F52-AF04-AD0C7B1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5CC4E2-879C-483B-B144-32053DEC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98C38C-05A2-43AE-98D7-B1633D1B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05DE6A-B9F6-45A4-921C-85130F67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976417-7DBC-49C9-8244-B42DA8A5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550C3-FC62-4DC1-A13F-2EBEA415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8E9DFE-5493-4F61-9DF4-BEF386F8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02016B-9774-4CA2-95A0-CA77D24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887CA4-C9F1-4997-BE72-ED998A24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E540FE-805E-41B2-A9C3-6EFABD9C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CF717-9702-4D80-88F6-B44245E1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C67669-E284-4B1E-9C82-1D9A6C19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0E2CD4-C733-47CA-8F3B-1B69DBA7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05AA8A-BBA7-478B-B3B6-01EA2E5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F7F62A-E8C0-4B2B-B61D-FA74ECB6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B0C91D-773A-4B56-84BE-01AA45F6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6E9E-4760-4BC0-98AA-CDBC718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7F5B7-FCFA-44C4-8C5A-DB74B726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E7D603-D9D7-4BA5-B2B6-85134D43F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13DB1E-DDF4-4171-A71A-9665275B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A2E0BCC-DC3F-4588-9B92-753B8F0F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EC57E2-1F2A-41FD-9AE4-23E3A593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FBABA8-582D-4580-824C-95F54427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660966-F3DD-4B7F-A79A-33139E7F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977FAB-FA51-4161-91D0-3499E19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2B58D6-1427-4490-84BB-9957F04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4122D3-ACA2-4372-B1D7-45E2AF9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3C99B6-2B0E-48FA-A4CD-B4D15CEE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909C-4A96-483F-8944-24175BAE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8A463E-1905-4F28-A190-17F4052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A1DFBA-6D2C-4201-A750-80285FEB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587F74-3720-4C97-94CD-D169481F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637A769-052E-4DFB-BA5C-9F6EDFC3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6C5616-94D2-4BE2-B6F6-BF64297F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70F7C4-347C-4B74-9572-50CC6490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9D3157-5D65-4F18-8726-F3F1E4A2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706522-F328-42ED-A4AE-78AB2B8F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916BEB-7B32-4457-A48F-D5F12F2E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27921C-FCB8-430A-8A92-49CF312D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E6510-E8CC-4A37-BE42-6A802B4D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0D3F08-F7A0-42B6-B801-13C81B97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5F3415-2F51-4A35-94D6-FB1D8857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ADE3B8-1A9E-4EE2-930A-155905D1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60D11F-6E9F-499D-BB91-1E59B842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68A236-EC50-4A3E-A1B0-C331660A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EE9962-001B-45DC-A321-2D5D3340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FD2BE3-1F4C-4297-9050-C95B5CB5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E8A91C-9CE5-4D48-B6C8-E8998E30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622957-D16A-445C-B52B-02CA9836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ED5FBC-05E0-4C79-BD12-AEA59CD0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60AB-EEFC-47A2-BEAF-D457CB57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A7C7D6-54B4-4B57-9AED-DC50A968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B78DCD-4207-4093-BE17-D02FA9D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A44F1A-5B2D-432C-9C79-5CB99AC6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AE0556-8E97-4985-BB2A-066D2B56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228B4D-443F-4EB0-B613-77C4ACBF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644AE8-6238-43C6-9E3E-6F3C3897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0AF08A-3853-4F08-9BB8-61431C4E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E2949B-5C73-4646-8A28-78DF10A3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31CBD1-A2A8-441F-9BCE-B90B0B77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3DC1C0-62D1-4153-96C4-4D88169D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770B-A4CB-4839-9EF9-39196409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E10CC5-3D33-4415-81E1-643EBE97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F23264-8DC7-476E-948D-19EAC871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47B040-9515-4A93-94DA-6436CE56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49D7BA-9030-41D3-86DB-2EA5EEE6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05F7B2-2099-41C0-A1EA-AB07A8D5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F5E6D8-32AA-4D5B-8677-FC0538A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C27874-DFC7-4C2C-A304-784CD05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5A3C14-6942-43FB-B62D-E94C89B7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26860E-1B38-4AEC-99EA-D30DD409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BB69B3-2B89-48F1-8F82-BD265503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87BC-AFE7-42B5-91BB-F552AB6A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9E80E1-B43D-41AF-B766-A715E6A5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8D6284-0614-442E-BD46-C13A7B69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C87CEB-B0F5-41F9-9BAF-1A9971F3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F84152-E019-4579-AC90-A7200BBF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689B83-7901-424E-A914-290A0CB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0E7D99-9D4C-463B-B42C-9FB00FAE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C5D9A0-5294-4B36-8E9B-DBDE480E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D23E56-C9E5-43FE-B2CE-A44782F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11E604-B7E1-47E2-97EE-94D402D3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5166F8-8884-4F34-997A-FBD5A673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2B3C-0D78-4BBD-B9A7-9EE70413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A9D24F-6872-4DAE-B8D9-693BAB60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E2EA1E-8A20-4E01-89C4-76B2156C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0812F9A-6F92-4467-B56E-96461CF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8B4BFD-F5D7-4E8C-B53A-A19031D8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BD9622-C4DA-4F02-8FC2-ECBE6E28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3AFFA4-A37E-4431-B82C-30593A02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53A948-FFF9-4A01-B151-844B6105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186426-798D-442B-856C-E1555C8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7871BD-235C-4785-BEA5-444F0B33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021155-5247-448A-B05E-BF9F2C05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C5468-4B5E-4237-9643-AB9E4910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A59DB6-2A91-4EB8-B936-ECE142B9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A08545-9B78-4AF1-879C-C7FC3C3B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448A3D-4916-42A8-BABE-585BB0E1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BBD6F3-729E-489F-9780-DDD06E8D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6F185F-89C8-4A34-ABE1-7FADE1B2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F72CAA-292D-46CB-8320-274256FC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329147-EEBA-4112-8366-D562A828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B6FB5D-D86F-4670-ACB7-F1C24477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094F91-54B2-4F34-A69E-C1F59B35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EEE82E-4220-41CD-B2AF-7F219BDE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74AD9-4A2A-4C6E-A145-D00CB818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332AC3-423B-4A22-AD25-A7305461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2C4AFC-C105-4C63-AF92-59F45730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2CCC16-71A8-490D-8114-51D865F1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43D0B0-C662-497C-9833-514F0210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E4C050-DB0F-49C9-B1AA-6AB6B311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5A6FF49-D4BF-4EF5-B3A9-C32343E5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587A84-D4D5-4BFF-A648-98E61D59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E27075-47D8-4B4C-826D-1888727E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8CB28E-EF08-4CD1-AEA6-418C4368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EE60F0-48FC-474C-A3D7-26699E46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1FECD-6508-4C73-A2A1-5FE611E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37E87B-4103-415E-ABD0-6187F087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4AE3F8-BDCD-4259-AA1F-0E286D68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3C21E8-E035-4FEC-AAE4-42E2AA94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0150D6-E10A-42A5-B5C3-77C44A6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9A6B5C-412E-45FC-949C-C4F63598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528EA6-AFBA-4777-9DEB-DEA24F16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8B90FF-9C30-41C7-9AE9-EDF71135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292BB3-8A54-4639-BAFE-ABB15798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76A584-737F-48E4-9EE3-D80CF5B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B10C84B-8CE8-46B2-8202-87AF60BF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5D4-3E1A-4B4C-9497-210C7282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21CCC-4533-414C-A4A7-2F00CF01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6C0389-155A-4BDF-9C6E-C1704386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F06BFE-33EC-4D64-8E09-65F476BB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0D1F1B-2495-401E-8488-A434EED5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9EFFCC-4B07-4230-BFE4-32742B62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6707DE-90B3-4655-881D-F5268226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B08B93-9094-48D9-9FF2-92DFE38B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CA6BC2-8835-4C60-90E5-2D770B82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160346-A8CC-496E-ABB9-43954341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4F9C8F-7473-44E3-8504-D7CDA77F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71EF44E-1414-4C66-99F3-E966DC14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F4EFF-FDB6-4FCB-88FD-2339C148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030929C-BFD5-4CC8-9FDD-F6EC2D56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60C4D44-CA28-4850-9DFD-12F9A672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50EF74-11E9-43D1-A44F-5FC707C3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ADC01E-F48D-4E39-9F03-E2EF736E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CDB65E-74FB-4D04-BFA4-4B4E5F54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15F46D-CA1C-4940-BFC6-4AADD6E2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5D0374-D130-41BE-BEBB-9964EE5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75CD21-F2D7-49E9-A577-1739EBC3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F64FC1-6495-45F3-A8DD-A8E638D9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2BCE6E-D335-4C53-B864-F276530C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B954-E287-45B0-A8CE-1E06797B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42AC3F-13EB-4B70-94BE-118BE534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F2A5C1-CB9B-4F88-A166-B69A0571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73C91A-1CE4-4362-BCD9-0BCAE8C1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5F2545-DB55-4D42-896C-762F524E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2B73AF-F9D9-4EF3-B2E1-58E8BD6C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EBC504-CBDA-4E1F-A3AB-ADA0FF6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2B2475-1380-41A3-97E7-C14185D8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E7DB1D-6C04-4C36-9E03-848E86A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B80CEB-E12F-4672-9F7D-C028B0BF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9611E4-4ECD-4847-AD12-6C089B3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17746-3863-4EBD-A8F9-DCA5A48B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A8AB0D-4ED2-4C94-8785-914BFBB4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FEFC6C-078D-497B-87F2-19D6A3FC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F14CCC9-AEFD-4968-AFEE-51DCC3B2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EB608E4-818E-42FC-880F-A6CFB430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8B34C2-0D4F-41F0-BDAA-68120268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AFA852D-C07A-40FC-8362-4EA59EC0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E04D5B4-FF5D-46DC-8051-6FF69588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BF7180-809A-4904-B378-95224064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1A7D91-71F1-4983-ADB1-3701E771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2A33BC-160F-4523-96E0-AB0ECCEA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7F6B-6D36-4E36-A5A8-9FFBD7F5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31F8D4-FF4C-487A-9B02-8AEE2898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FD03D3D-FE24-423F-90B7-A25F5E4D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6D3D65A-6616-4479-955F-250DDD3C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C4E326-C2CD-4108-8216-D8A299E1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9D3822-7F83-4376-A528-FAD4FEF4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D6E1A-DBAA-41D4-B54E-784A31A0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E8373-FE75-4CE7-9289-27A7208F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24A7B-BBC2-408A-BB30-111510E3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E97E-0934-4698-A2BC-77D2463D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1DC8-3140-44FF-86EE-79A8692E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AE45-A452-47B7-8A92-68F9648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D3C59-0487-498A-9622-5C25DB37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67BAA-EA24-447E-956D-52910B0D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EBEE4-26D6-4962-8066-341D9DA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4D3A-AFE4-4952-AD66-CCAA7298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E169-B268-4E18-ABDA-A5EAAF6F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2C2ED-0DA8-43AB-972A-BA8FAE2A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BF46-0E05-4E22-8A88-E8272F75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42D80-96AA-4079-912C-CB8599FC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E4E16-C0F7-4A86-8502-33BA8E58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B032-3CC2-4A72-AF2C-657D3423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889-7F3D-42EC-9ACD-7001D494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E27A-B3D9-4ACF-85FD-AFD05BA8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320E-74A9-42D0-91FC-DA7277C3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F0D99-1470-4135-B0D1-F748028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409E-B7F1-44F3-9574-0F6DF6CA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E5E7-2027-4A2E-8F78-B2AA62FA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7410D-BB6A-4D26-8491-5119E209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8A182-8C2E-4B38-BE8B-A5E9C584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6F5D0-9E77-48C1-B525-DB70976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978D4-F0C5-448C-9AA0-87ECA3AD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6F2DC-019B-4B1C-BE3B-C1A29123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17E-CCE2-48DC-98CF-E5E35C1A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2EE41-022C-40DB-B5DB-FD8ACD18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4810D-7E85-43F5-8323-957DB25F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E20BC-ECB9-4743-834F-471856E17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8C4C-BCFE-4CB5-9136-C7A18943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37A95-F440-4471-9D57-27255809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E0194-A65E-452B-B8AB-E641CF74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B104B-52D3-4803-817F-AC1FA496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3CE4B-A705-4955-9859-8E2ACF3A5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6EF0A-0DB2-4935-B9B2-64423E4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EF016-D592-46E6-9739-18F6ED93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49B-A811-4CBF-AECC-1FF4BA4C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5658A-7E23-4A26-9EFC-43E1ACC2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1D41-A09B-4276-8D28-8CBD6644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27469-3D9C-42AA-985F-3DE6AF9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FDE26-0632-4E47-B949-54E6BBAA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FCAB1-05DF-4189-90D1-7C73E074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3AE34-5FD0-4C28-8B44-31783096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E9CA6-E0CC-4750-95DA-9991E46B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E3D2-B08A-4460-9213-F3206F44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61B30-255D-4844-8D00-DB91C274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56E08-CEA5-423C-A083-A5049B21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A89-395D-4BF5-AEE8-88BCCFA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6C1D5-6F16-4DAB-BD9E-C1EF370A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93D71-2098-4922-8CE2-AEBC7404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D96E1-19B1-4356-B94C-ED1E1A65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F9E5B-7938-40EF-BE14-2E8FA77C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C8192-F133-47DA-8B9F-78AC9A98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A0906-3C6F-47D9-BD8F-12FBBB63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B00EED-BC16-402F-94E5-FB345A57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C4032-52B7-421A-8205-D472B91C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6A302-4F6F-4E95-BCA2-0AE50117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2C26-9229-47DB-860C-23C8D0BA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3FCD-E598-4ECE-8AE7-53C08DFD331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06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DCB-F79A-49E5-8A82-2DA1589E61E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0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51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2CD-75CA-40CE-9A2C-F67DCFC50A5C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95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96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BB96-EF72-4C08-92C9-7BB507FE9D4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73D9-726E-4703-97E3-B67B76F09C2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6AA6-5189-47E2-BAF7-3A4F0385D897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0EEB-ABDD-40A4-8BE6-E2EE17DAB192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sldNum" idx="47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4EBF-8C7A-478A-814C-64C8E86A805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5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5290-3D2C-49DA-BB49-BE47C6E3566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ftr" idx="5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sldNum" idx="5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7E0D-D83F-4EF7-A76A-056C8D131A7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ftr" idx="5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57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5FA7-C760-4440-8381-2630F8EF2A5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6D9A-5AD5-4C37-A5DA-1CCFBBC437BB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sldNum" idx="5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C307-B09D-4EE8-85AF-A7AE2D57FA0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ftr" idx="6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BDA1-1805-426E-AEBB-73E430DE14F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3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3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3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3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3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28DE-EE91-46B9-8530-8F256AF5BD5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8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8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5EED-8744-4B58-B0F9-3DDD28CA45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7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57E-6B9D-4391-AAA4-046C5900468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7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077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8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07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8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pic>
          <p:nvPicPr>
            <p:cNvPr id="108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F927-E56F-4AC4-9E54-1FE7C10D987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2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2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12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3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4E48-E2A1-400F-AAB8-CABE33B4426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7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17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17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C5E3-6C15-48D2-B86D-0560CE6978F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AC43-D4A0-4D39-8995-4DDDE838D9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6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26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26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0991-92E6-4261-9510-785D5000E5D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F25E-C7BD-4992-A6C3-716068539C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01B6-8322-491A-884E-C346275F832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35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35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5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0285-1530-4D33-BFD0-45E0D73A5F9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9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 type="dt" idx="9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 type="ftr" idx="9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 type="sldNum" idx="9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09A6-CF28-41E3-8F7B-2DAE448BFFC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45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446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7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448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0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9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9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9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25C7-FE99-4001-9481-C14175047C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5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 type="dt" idx="10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 type="ftr" idx="10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 type="sldNum" idx="10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B847-3A4B-443D-A6AB-61569A26899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9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0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1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dt" idx="10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10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 type="sldNum" idx="10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594B-3E00-45F3-B787-7F0F46A3AA5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61F6-CBDB-4DE1-A682-49B2046E78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9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E714-C847-49A4-AF6B-4CF328EBA1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66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FA04-A406-436B-BAAF-6D3035A4891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144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18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9501-9C32-4F42-AD37-0397DABE125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40AA-A11F-499B-A9A6-4917FD701F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274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6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389A-D41F-4DD6-99D7-BB83570247E7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319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16CB-F798-49EC-84E6-CE0F2DB8D1AD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7D51-E873-4FE7-87A5-7502CD7FA334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quia.com/rr/12502.html" TargetMode="External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304560" y="1066320"/>
            <a:ext cx="8458200" cy="225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ff8d3e"/>
                </a:solidFill>
                <a:latin typeface="Blackadder ITC"/>
              </a:rPr>
              <a:t>Seed of Life</a:t>
            </a:r>
            <a:endParaRPr b="1" lang="en-US" sz="15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2819160" y="3733560"/>
            <a:ext cx="5715000" cy="2251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74d26"/>
                </a:solidFill>
                <a:latin typeface="Bodoni MT Black"/>
              </a:rPr>
              <a:t>A Unit Plan for Science IV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5f07"/>
                </a:solidFill>
                <a:latin typeface="Book Antiqua"/>
              </a:rPr>
              <a:t>Prepared by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45f07"/>
                </a:solidFill>
                <a:latin typeface="Book Antiqua"/>
              </a:rPr>
              <a:t>Seno, Bunani &amp; Bongb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743a"/>
                </a:solidFill>
                <a:latin typeface="Goudy Stout"/>
              </a:rPr>
              <a:t>Educ 25 ED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3" name="Picture 3" descr="MC900441862[1]"/>
          <p:cNvPicPr/>
          <p:nvPr/>
        </p:nvPicPr>
        <p:blipFill>
          <a:blip r:embed="rId1"/>
          <a:stretch/>
        </p:blipFill>
        <p:spPr>
          <a:xfrm>
            <a:off x="5715000" y="1585800"/>
            <a:ext cx="3429000" cy="5272200"/>
          </a:xfrm>
          <a:prstGeom prst="rect">
            <a:avLst/>
          </a:prstGeom>
          <a:ln w="0">
            <a:noFill/>
          </a:ln>
        </p:spPr>
      </p:pic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8077320" cy="5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78279"/>
                </a:solidFill>
                <a:latin typeface="Bodoni MT Black"/>
              </a:rPr>
              <a:t>Unit</a:t>
            </a:r>
            <a:r>
              <a:rPr b="0" lang="en-US" sz="7200" spc="-1" strike="noStrike">
                <a:solidFill>
                  <a:srgbClr val="578279"/>
                </a:solidFill>
                <a:latin typeface="Broadway"/>
              </a:rPr>
              <a:t> </a:t>
            </a:r>
            <a:r>
              <a:rPr b="0" lang="en-US" sz="7200" spc="-1" strike="noStrike">
                <a:solidFill>
                  <a:srgbClr val="578279"/>
                </a:solidFill>
                <a:latin typeface="Bodoni MT Black"/>
              </a:rPr>
              <a:t>Summary</a:t>
            </a:r>
            <a:endParaRPr b="0" lang="en-US" sz="7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2286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5f1e"/>
                </a:solidFill>
                <a:latin typeface="Tempus Sans ITC"/>
                <a:ea typeface="Tahoma"/>
              </a:rPr>
              <a:t>Students have a natural curiosity about plants as living organisms.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5f1e"/>
                </a:solidFill>
                <a:latin typeface="Tempus Sans ITC"/>
                <a:ea typeface="Tahoma"/>
              </a:rPr>
              <a:t>   </a:t>
            </a:r>
            <a:r>
              <a:rPr b="1" lang="en-US" sz="3200" spc="-1" strike="noStrike">
                <a:solidFill>
                  <a:srgbClr val="7c5f1e"/>
                </a:solidFill>
                <a:latin typeface="Tempus Sans ITC"/>
                <a:ea typeface="Tahoma"/>
              </a:rPr>
              <a:t>This unit will facilitate pupils’ interaction with the environment by encouraging them to learn more about the in-depth concepts about plants. </a:t>
            </a:r>
            <a:r>
              <a:rPr b="1" lang="en-US" sz="3200" spc="-1" strike="noStrike">
                <a:solidFill>
                  <a:srgbClr val="7c5f1e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6" name="Picture 3" descr="MC900338360[1]"/>
          <p:cNvPicPr/>
          <p:nvPr/>
        </p:nvPicPr>
        <p:blipFill>
          <a:blip r:embed="rId1"/>
          <a:stretch/>
        </p:blipFill>
        <p:spPr>
          <a:xfrm>
            <a:off x="5433840" y="2286000"/>
            <a:ext cx="3710160" cy="457200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 txBox="1"/>
          <p:nvPr/>
        </p:nvSpPr>
        <p:spPr>
          <a:xfrm>
            <a:off x="0" y="-305280"/>
            <a:ext cx="632448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2d050"/>
                </a:solidFill>
                <a:latin typeface="Garamond"/>
                <a:ea typeface="Tahoma"/>
              </a:rPr>
              <a:t>During the unit, students will ask questions and devise ways to find answers as they discover why seeds in plants are important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lnSpc>
                <a:spcPct val="10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b050"/>
                </a:solidFill>
                <a:latin typeface="Garamond"/>
                <a:ea typeface="Tahoma"/>
              </a:rPr>
              <a:t>In addition to working with scientific process skills, students engage in writing activities that would encourage descriptive and critical thinking as well as creativ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Title 1" descr=""/>
          <p:cNvPicPr/>
          <p:nvPr/>
        </p:nvPicPr>
        <p:blipFill>
          <a:blip r:embed="rId1"/>
          <a:stretch/>
        </p:blipFill>
        <p:spPr>
          <a:xfrm>
            <a:off x="-165240" y="122400"/>
            <a:ext cx="9480600" cy="877680"/>
          </a:xfrm>
          <a:prstGeom prst="rect">
            <a:avLst/>
          </a:prstGeom>
          <a:ln w="0">
            <a:noFill/>
          </a:ln>
        </p:spPr>
      </p:pic>
      <p:sp>
        <p:nvSpPr>
          <p:cNvPr id="1739" name=""/>
          <p:cNvSpPr txBox="1"/>
          <p:nvPr/>
        </p:nvSpPr>
        <p:spPr>
          <a:xfrm>
            <a:off x="228240" y="1066320"/>
            <a:ext cx="7924680" cy="54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uhaus 93"/>
              </a:rPr>
              <a:t>Essential Question: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Can life sprout from a small object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uhaus 93"/>
              </a:rPr>
              <a:t>Unit Questions: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How do plants reproduce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What are the perfect conditions for growing a seed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Bauhaus 93"/>
              </a:rPr>
              <a:t>Content Questions: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On what means does a plant propagate sexually or asexually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How do you illustrate the different stages of a plant’s life cycle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What are the parts of a seed and its func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de6c36"/>
                </a:solidFill>
                <a:latin typeface="Eras Demi ITC"/>
              </a:rPr>
              <a:t>What important factors affect seed germina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1740" name="Picture 2" descr="MC900071369[1]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5410080" y="838080"/>
            <a:ext cx="2713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Snap ITC"/>
              </a:rPr>
              <a:t>Assessment Summary :)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The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Seed Book 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serves as a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portfolio.</a:t>
            </a:r>
            <a:r>
              <a:rPr b="0" lang="en-US" sz="36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It includes the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documentation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 of activities as well as the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students’ outputs</a:t>
            </a:r>
            <a:r>
              <a:rPr b="0" lang="en-US" sz="3600" spc="-1" strike="noStrike">
                <a:solidFill>
                  <a:srgbClr val="089ca3"/>
                </a:solidFill>
                <a:latin typeface="Constantia"/>
              </a:rPr>
              <a:t> – both individual and group. As the teacher, the Seed Book will be rated according to its </a:t>
            </a:r>
            <a:r>
              <a:rPr b="1" lang="en-US" sz="3600" spc="-1" strike="noStrike">
                <a:solidFill>
                  <a:srgbClr val="0076a3"/>
                </a:solidFill>
                <a:latin typeface="Constantia"/>
              </a:rPr>
              <a:t>completeness of entries, content, organization and creativity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quia.com/rr/12502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urbanext.illinois.edu/gpe/index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2.bgfl.org/bgfl2/custom/resources_ftp/client_ftp/ks2/science/plants_pt2/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bbc.co.uk/schools/scienceclips/ages/9_10/index_noflash.s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gfl-cymru.org.uk/vtc/factors_plant_growth/eng/Introduction/MainSessionPart1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gfl-cymru.org.uk/vtc/plant_repro/eng/Introduction/activity2pop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ngfl-cymru.org.uk/vtc/factors_plant_growth/eng/Introduction/MainSessionPart2.htm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://www.catie.org.uk/PL_home_sweet_page.htm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744" name="Picture 2" descr="MC900446274[1]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910560" y="0"/>
            <a:ext cx="2233440" cy="1968480"/>
          </a:xfrm>
          <a:prstGeom prst="rect">
            <a:avLst/>
          </a:prstGeom>
          <a:ln w="0">
            <a:noFill/>
          </a:ln>
        </p:spPr>
      </p:pic>
      <p:pic>
        <p:nvPicPr>
          <p:cNvPr id="1745" name="Title 1" descr=""/>
          <p:cNvPicPr/>
          <p:nvPr/>
        </p:nvPicPr>
        <p:blipFill>
          <a:blip r:embed="rId3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"/>
          <p:cNvSpPr txBox="1"/>
          <p:nvPr/>
        </p:nvSpPr>
        <p:spPr>
          <a:xfrm>
            <a:off x="380880" y="457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b050"/>
                </a:solidFill>
                <a:latin typeface="Cooper Black"/>
              </a:rPr>
              <a:t>Let us begin the FUN journey!</a:t>
            </a:r>
            <a:endParaRPr b="0" lang="en-US" sz="8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1747" name="Picture 2" descr="MC900059136[1]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5562720" y="1752480"/>
            <a:ext cx="335268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20:05:17Z</dcterms:created>
  <dc:creator>user</dc:creator>
  <dc:description/>
  <dc:language>en-US</dc:language>
  <cp:lastModifiedBy>nave1386</cp:lastModifiedBy>
  <dcterms:modified xsi:type="dcterms:W3CDTF">2010-09-22T23:55:44Z</dcterms:modified>
  <cp:revision>9</cp:revision>
  <dc:subject/>
  <dc:title>Seed of Life</dc:title>
</cp:coreProperties>
</file>